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211-0ABF-4EAE-98AD-8B29A188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862-733D-4EE9-9C42-060B69F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CF1-B790-491D-958C-9F7D52FE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13E-733C-4F41-BC09-E26B905B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201-8033-4D24-A7C0-0BF5D114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254-3E91-411E-ABF8-8C73C803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16A-CF7C-4CF4-930C-6F74916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74F-431A-4A45-9754-DEB6E93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405-1F05-46EF-8B1E-2FC472F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3CD-9014-4191-A5B9-51FC643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BB2-96DA-4588-A5F1-22DD211A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789-570F-4ACD-AB72-4D53279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16E3-40BB-44DC-BA3D-E0CE72DAA9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ияние табака на организм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6" descr="519x346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влияние никотина на человеческий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на какие системы органов влияет нико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ёгк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5" descr="cigarettelungs-full"/>
          <p:cNvPicPr/>
          <p:nvPr/>
        </p:nvPicPr>
        <p:blipFill>
          <a:blip r:embed="rId1"/>
          <a:stretch/>
        </p:blipFill>
        <p:spPr>
          <a:xfrm>
            <a:off x="250920" y="1700280"/>
            <a:ext cx="424980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, кто много курит, заболевают раком лёгкого в двадцать раз чаще, чем некурящ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рдечно-сосудистая систе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вызывает преждевременный износ сердца, сосудов, также как и других жизненно важных орган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 выкуренная сигарета увеличивает пульс на двадцать ударов в минуту, поднимает давление на несколько десятков миллиметров, понижает кожную температуру. Эти изменения держатся около тридцати мин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 образом, в течение дня сердце постоянно получает дополнительную нагрузку, которая со временем приводит к заболева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зг и нервная систе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вредном действии никотина на центральную нервную систему можно судить по действию первой выкуренной папиросы: тошнота, рвота, холодный пот, иногда потеря сознания — вот симптомы, которые говорят об отравлении клеток мозг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img_3634_02"/>
          <p:cNvPicPr/>
          <p:nvPr/>
        </p:nvPicPr>
        <p:blipFill>
          <a:blip r:embed="rId1"/>
          <a:stretch/>
        </p:blipFill>
        <p:spPr>
          <a:xfrm>
            <a:off x="395280" y="2276640"/>
            <a:ext cx="4176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лудочно-кишечный тр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ящие иногда говорят: курение делает пищу более вкусной. Конечно, если предварительно наполнить рот какой-либо горечью, то после этого самая обычная пища покажется вкусной. На самом деле курение снижает аппетит. Давно замечено: бросивший курить начинает прибавлять в весе. После прекращения никотиновой интоксикации все обменные процессы улучшаются, лучше усваивается потребляемая пищ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ельный исх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абаке содержится никотин — чрезвычайно ядовитое вещество. Выкурив пачку сигарет, человек поглощает смертельную дозу его. Но пачка выкуривается не сразу — у человека вырабатывается некоторая устойчивость к я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тистика говорит: смертность от сердечно-сосудистых заболеваний среди много курящих в два раза выше, чем среди некурящ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20340341_21"/>
          <p:cNvPicPr/>
          <p:nvPr/>
        </p:nvPicPr>
        <p:blipFill>
          <a:blip r:embed="rId1"/>
          <a:stretch/>
        </p:blipFill>
        <p:spPr>
          <a:xfrm>
            <a:off x="4648320" y="2270160"/>
            <a:ext cx="40384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42:35Z</dcterms:created>
  <dc:creator>Admin</dc:creator>
  <dc:description/>
  <dc:language>en-US</dc:language>
  <cp:lastModifiedBy>07100</cp:lastModifiedBy>
  <dcterms:modified xsi:type="dcterms:W3CDTF">2009-12-26T08:24:44Z</dcterms:modified>
  <cp:revision>4</cp:revision>
  <dc:subject/>
  <dc:title>Влияние табака на организм человека</dc:title>
</cp:coreProperties>
</file>